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298-468E-41DA-8973-3417D784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1AE-A2EB-4B61-9F34-4D00DD19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FAF66-B45E-49D5-8482-D4ADB6C0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347E8-AEFA-4287-AC6F-65BE0371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435AA-5671-4722-952B-4434B5BC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9A876-B500-42AA-94A1-874EEC3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C548E-AA73-46DF-B2F7-D2B82004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A74D7-05E8-4033-8798-21914821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C9680-2BBF-417B-94F8-40404BC0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F1F8C-4AE0-43D1-BF19-9820EB9E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10925-DEC6-4EC4-999C-C04F120A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DFB1F-2DD1-4A63-B4A1-9E30F01F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F19-DAC0-4A1C-994E-F7B8325E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4A371-C22C-4D7F-B9D2-4AF0FF9F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FD9C8-66F5-4488-94B4-20E3CCEA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A90BC-3320-4C35-A43B-22064111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8BF36-B7C3-45DA-B605-837E2B11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C7A6F-F7DC-486A-8F61-9E2DFAC5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24E17-C379-474C-A8A4-C3CFFF9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6A940-7C27-4E83-BA89-947CF569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CD8F7-DCE6-4E3C-912B-AD08AACB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C0721-F712-44BC-A30C-03B2DAC9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8F2B1-689C-4534-AF80-91C2B68E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ACD-8364-4179-B5D7-C57D1AA0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04CA2-2501-4422-8BD7-1881092B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606F8-6C24-4E2A-85C2-47C8224E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4644A-0BBE-4FBB-8A29-8C5EC543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BF74E-4BD6-4A3C-BAED-490E8040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6EF60-2852-4287-93DA-C6937126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E903F-5AD4-4087-9CBD-BCFA225C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726C2-2976-4967-91A4-6F5DD1F8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C2E47-1410-4363-81E8-69741273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C33B7-06EB-493A-8BD7-8623E597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08112-68B9-4908-84BB-58DD15E6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FE40-CFD6-4A82-8610-D2423C37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C0DC3-51C6-41D8-B586-B7D31862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E3B61-6073-4492-A4B6-4FDC66C6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BA261-E3F9-4CC1-BB1A-71F4A1B0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A2B2C-2CFC-4A27-8ACB-81090FEF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DD44B-616C-4F93-958A-4F38D37A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7DD5F-024F-490C-99B5-C080FA30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9BC5B-35A0-4A8E-8E68-6CB64300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A8334-7D16-4A0F-ABB7-C25A7CFF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D3AFE-33BB-4296-BC2C-66EEEA86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17C46-F277-4ADE-A545-45B9A479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8DD3-1518-42CB-A0F4-56161018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DFCAF-330F-474C-AAE8-ECFC5228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03AB4-DA78-476B-9BE7-256F2418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65775-5627-46E6-A757-0CC70076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6C355-953E-4BC2-8FE3-60A9B16F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92BCD-B0A4-4371-B162-18D39039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A652-28B1-4574-A940-FFED4B0B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3446-77DF-4722-B2EB-7BA0AA77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96D0-C900-4E50-B78D-C3BE3ACF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EEB3-A169-46DD-BEBD-D00A4D09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3616-008B-4BD8-9B6C-65F09A8B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4A9-8932-4A87-8263-91F20802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B784-00FF-4044-A811-7896E107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59B8-9366-4CDE-83D2-37E6CFB0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30C0-6DB1-4881-A90D-E963C8EF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28B7-7293-49FD-BE6C-2C35D23C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D40D-DD7D-4FAE-BFB3-382D66CE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6309C-F171-47C2-9173-B2433FBB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1BB1-0CE9-49E2-B1CB-6AFC2D43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5EA3A-0897-4100-9048-F36D65C8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72836-34A6-4C81-9396-6E9B66C1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1F57B-AB35-41DE-8ECA-CF627BD0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95F-2469-419E-869D-6AD9DC25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DFC79-695A-41BE-8C06-80F70F3D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BF5E5-A62A-433E-8D88-37B3BE19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9123D-3A95-4FC9-BBD9-B1C72CF5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51E6-95F7-4EF7-B1A8-DBEC3C84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D6C5-51DE-4D0E-B9DA-F019DDCA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3A0D-613D-49A8-95B0-FEC4CE23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F2B0E-1521-4937-8BE2-9DDA25F1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C75A7-6379-427C-A10B-6A5F2177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60738-E3BF-4102-BDA6-929F0964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6AF1-A6FA-44CC-B1F4-AD0DA339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DC1-9052-4EF5-AEDF-83FBDD17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7DD87-A36D-4B89-A180-53256C5B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298B3-0C10-4AD8-8341-DFF48A20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B8F00-003E-431A-9419-C29173F6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42AA6-AEE5-449B-96C3-FC7737B2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624C-CC38-410D-B6D1-0AA03973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3DF51-598F-46C5-BE90-F960E15D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959F9-3D42-4692-A09E-17A99EAD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97AB3-9FD0-4156-B8B2-60D344B8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37ACA-FBB0-44A6-BFD3-5008D138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2DB7-CD30-4BC9-AFD7-7BECA9A0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BDB-1F8F-45A8-8006-3EAD65BB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BDAA3-8A26-49E4-A399-70295327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F1FE7-F2A9-4378-8EA1-BE42D821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1D70D-5847-49C4-9FEA-51B6FFEB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AB75B-EE38-4606-99FA-5B5BCC6F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C789A-083A-481D-9417-51075045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931C3-01CF-42F7-BBB1-4A1635F7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A7939-8170-4408-9BFB-9B73F804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44F2D-2AEC-4D11-8AC0-AD03B676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93FC9-40E0-4CE2-AEB7-496A72C7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DCED-300D-4F69-806B-81659E1D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EDC-5297-440A-B886-40E33517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F7908-339B-405A-9B9E-A9ADC8C1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C77FA-4C30-44E1-82CC-650F3817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912E-D94D-4810-A9CD-22167165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65B29-D3D7-41A1-857E-A0DD84F7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92DB8-EC4A-4268-B77B-968D4262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26CF7-244C-49D0-A9C9-2B7A3A96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D7C02-C8CB-4DBB-A6EB-B3FD327E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AFE19-D689-4E4E-89A7-8D9F9E7B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75156-9042-4C04-AE6B-7CE13624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8FB43-FA54-43F9-BC79-06D4A971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7D2-943F-4DFB-979F-9F3F29CD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448E4-9418-4C3D-B7DD-0662B357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BA3B0-2E74-4DE2-8E06-00067594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FCC96-431A-4990-9226-4A166B01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A038E-2186-4E09-8BD3-AB473114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104C4-3B11-4D97-BB86-2CBA9B77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B63F7-E8FD-4824-9642-0B476782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0B363-563A-4439-A5B7-A724ED77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A3D17-DB28-4D81-9BC3-23A6C7C3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D7095-F464-4452-B32D-0DA7C7C6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CC98C-D203-4CEF-892A-CE6709E6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64A-7DD2-4E1C-9323-DA921F83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A6A11-B791-4ED2-A58F-4350AF20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D31C9-4B54-4BEC-99C9-6A0A35AF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AA028-A90E-40F6-89A9-4A825488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51F2D-A428-40C4-BB0F-7A4ADFD5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76B25-8319-46BF-973A-776FB7F7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FA692-CC30-4727-BF1B-8F7B3D03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00728-0EC4-4285-9A79-25BD4259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FA845-F586-41D7-AB73-097C21DC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AC379-0F52-4F3A-8E6C-820D82BC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B18E9-00E1-4191-B38A-CA1A4E78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B7E-A59D-4B5C-9C0E-9B6ED4C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3D3A2-073F-4D37-B7DB-F06FEFE2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F98E6-DE52-45C3-9040-0B7F9C50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9CC6D-FFE8-4CAF-871A-A3EFF295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79564-CB3B-4A50-A8C6-AC602544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C6C35-96B1-4467-B74A-57396B98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CC0F6-D3F7-4C60-8A35-71D658E9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F9AD3-8B05-4BD7-9E80-3013B122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4AE71-BC73-4794-8E88-9969A432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4FBD5-8F9F-45A5-98AA-BE0B62B2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1F03D-A8F0-4486-83A2-29FD7D51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45A2-4ABA-47CD-89BF-3954045FA0E8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B8CB-9E2B-4795-9989-FBE8C1F91F60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0994-652A-49EE-A839-D5803F3D63E3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B377-CEF3-4F18-8496-AE357E5E0B0B}" type="slidenum"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6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1027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1028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1029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030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1031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1032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1033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34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35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036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037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038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039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040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041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042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043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044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1045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104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104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104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50EE-0407-4D30-B1A9-FD80328854F5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B2CE-9D2D-4CF9-B90D-F3090D168BDF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4251-15F7-46A6-999C-923BD72B078E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02AE-F6B8-4E68-BD36-86F99DCB3EB5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CBD7-F5D3-48D0-B25C-73614EC497C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F1CB-5526-4767-B54E-A4C18B563811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CF4E-26EE-4D8F-8ACD-587E20EC5D67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1267-530A-40B2-801F-D4CC25083001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0"/>
          <p:cNvSpPr/>
          <p:nvPr/>
        </p:nvSpPr>
        <p:spPr>
          <a:xfrm>
            <a:off x="0" y="342900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Curso de Sistemas de Informação</a:t>
            </a:r>
            <a:br>
              <a:rPr sz="4400"/>
            </a:b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Rectangle 11"/>
          <p:cNvSpPr/>
          <p:nvPr/>
        </p:nvSpPr>
        <p:spPr>
          <a:xfrm>
            <a:off x="1447920" y="4952880"/>
            <a:ext cx="6476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Times New Roman"/>
              </a:rPr>
              <a:t>Professor: Ricard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Mudança da base 10 para binári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714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357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178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89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44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22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11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5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2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1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Line 6"/>
          <p:cNvSpPr/>
          <p:nvPr/>
        </p:nvSpPr>
        <p:spPr>
          <a:xfrm flipH="1" flipV="1">
            <a:off x="1371240" y="3200400"/>
            <a:ext cx="3962520" cy="3657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5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5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Mudança da base 10 para binári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14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714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357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178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89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44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22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11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5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1  2 |</a:t>
            </a:r>
            <a:r>
              <a:rPr b="1" lang="pt-BR" sz="2600" spc="-1" strike="noStrike" u="sng">
                <a:solidFill>
                  <a:srgbClr val="eaeaea"/>
                </a:solidFill>
                <a:uFillTx/>
                <a:latin typeface="Times New Roman"/>
              </a:rPr>
              <a:t>_2_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</a:t>
            </a:r>
            <a:r>
              <a:rPr b="1" lang="pt-BR" sz="2600" spc="-1" strike="noStrike">
                <a:solidFill>
                  <a:srgbClr val="eaeaea"/>
                </a:solidFill>
                <a:latin typeface="Times New Roman"/>
              </a:rPr>
              <a:t>0  1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Line 6"/>
          <p:cNvSpPr/>
          <p:nvPr/>
        </p:nvSpPr>
        <p:spPr>
          <a:xfrm flipH="1" flipV="1">
            <a:off x="1371240" y="3200400"/>
            <a:ext cx="3962520" cy="3657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5791320" y="6400800"/>
            <a:ext cx="38088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Oval 8"/>
          <p:cNvSpPr/>
          <p:nvPr/>
        </p:nvSpPr>
        <p:spPr>
          <a:xfrm>
            <a:off x="5410080" y="6400800"/>
            <a:ext cx="38124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Oval 9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Oval 10"/>
          <p:cNvSpPr/>
          <p:nvPr/>
        </p:nvSpPr>
        <p:spPr>
          <a:xfrm>
            <a:off x="4724280" y="5562720"/>
            <a:ext cx="38124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Oval 11"/>
          <p:cNvSpPr/>
          <p:nvPr/>
        </p:nvSpPr>
        <p:spPr>
          <a:xfrm>
            <a:off x="4267080" y="5105520"/>
            <a:ext cx="38124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Oval 12"/>
          <p:cNvSpPr/>
          <p:nvPr/>
        </p:nvSpPr>
        <p:spPr>
          <a:xfrm>
            <a:off x="3733920" y="4648320"/>
            <a:ext cx="38088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Oval 13"/>
          <p:cNvSpPr/>
          <p:nvPr/>
        </p:nvSpPr>
        <p:spPr>
          <a:xfrm>
            <a:off x="3276720" y="4267080"/>
            <a:ext cx="380880" cy="3812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Oval 14"/>
          <p:cNvSpPr/>
          <p:nvPr/>
        </p:nvSpPr>
        <p:spPr>
          <a:xfrm>
            <a:off x="2743200" y="3809880"/>
            <a:ext cx="380880" cy="3812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Oval 15"/>
          <p:cNvSpPr/>
          <p:nvPr/>
        </p:nvSpPr>
        <p:spPr>
          <a:xfrm>
            <a:off x="2057400" y="3352680"/>
            <a:ext cx="380880" cy="3812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Oval 16"/>
          <p:cNvSpPr/>
          <p:nvPr/>
        </p:nvSpPr>
        <p:spPr>
          <a:xfrm>
            <a:off x="1447920" y="2895480"/>
            <a:ext cx="380880" cy="3812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4952880" y="3733920"/>
            <a:ext cx="37339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14 = 1011001010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Mudança da base 10 para octa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714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714 |</a:t>
            </a:r>
            <a:r>
              <a:rPr b="1" lang="pt-BR" sz="3000" spc="-1" strike="noStrike" u="sng">
                <a:solidFill>
                  <a:srgbClr val="eaeaea"/>
                </a:solidFill>
                <a:uFillTx/>
                <a:latin typeface="Times New Roman"/>
              </a:rPr>
              <a:t>_8_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2  89 |</a:t>
            </a:r>
            <a:r>
              <a:rPr b="1" lang="pt-BR" sz="3000" spc="-1" strike="noStrike" u="sng">
                <a:solidFill>
                  <a:srgbClr val="eaeaea"/>
                </a:solidFill>
                <a:uFillTx/>
                <a:latin typeface="Times New Roman"/>
              </a:rPr>
              <a:t>_8_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1  11 |</a:t>
            </a:r>
            <a:r>
              <a:rPr b="1" lang="pt-BR" sz="3000" spc="-1" strike="noStrike" u="sng">
                <a:solidFill>
                  <a:srgbClr val="eaeaea"/>
                </a:solidFill>
                <a:uFillTx/>
                <a:latin typeface="Times New Roman"/>
              </a:rPr>
              <a:t>_8_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               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3  1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 flipV="1">
            <a:off x="1066680" y="3352320"/>
            <a:ext cx="1905120" cy="17528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2" name="Oval 13"/>
          <p:cNvSpPr/>
          <p:nvPr/>
        </p:nvSpPr>
        <p:spPr>
          <a:xfrm>
            <a:off x="3048120" y="4419720"/>
            <a:ext cx="38088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Oval 14"/>
          <p:cNvSpPr/>
          <p:nvPr/>
        </p:nvSpPr>
        <p:spPr>
          <a:xfrm>
            <a:off x="2666880" y="4419720"/>
            <a:ext cx="38124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Oval 15"/>
          <p:cNvSpPr/>
          <p:nvPr/>
        </p:nvSpPr>
        <p:spPr>
          <a:xfrm>
            <a:off x="2057400" y="3886200"/>
            <a:ext cx="38088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Oval 16"/>
          <p:cNvSpPr/>
          <p:nvPr/>
        </p:nvSpPr>
        <p:spPr>
          <a:xfrm>
            <a:off x="1523880" y="3352680"/>
            <a:ext cx="381240" cy="3812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Text Box 17"/>
          <p:cNvSpPr/>
          <p:nvPr/>
        </p:nvSpPr>
        <p:spPr>
          <a:xfrm>
            <a:off x="4952880" y="3733920"/>
            <a:ext cx="37339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14 = 131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Mudança da base 10 para hexadecima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714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714 |</a:t>
            </a:r>
            <a:r>
              <a:rPr b="1" lang="pt-BR" sz="3000" spc="-1" strike="noStrike" u="sng">
                <a:solidFill>
                  <a:srgbClr val="eaeaea"/>
                </a:solidFill>
                <a:uFillTx/>
                <a:latin typeface="Times New Roman"/>
              </a:rPr>
              <a:t>_16_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10  44 |</a:t>
            </a:r>
            <a:r>
              <a:rPr b="1" lang="pt-BR" sz="3000" spc="-1" strike="noStrike" u="sng">
                <a:solidFill>
                  <a:srgbClr val="eaeaea"/>
                </a:solidFill>
                <a:uFillTx/>
                <a:latin typeface="Times New Roman"/>
              </a:rPr>
              <a:t>_16_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pt-BR" sz="3000" spc="-1" strike="noStrike">
                <a:solidFill>
                  <a:srgbClr val="eaeaea"/>
                </a:solidFill>
                <a:latin typeface="Times New Roman"/>
              </a:rPr>
              <a:t>12  2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 flipH="1" flipV="1">
            <a:off x="914400" y="3352320"/>
            <a:ext cx="1371600" cy="129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Oval 14"/>
          <p:cNvSpPr/>
          <p:nvPr/>
        </p:nvSpPr>
        <p:spPr>
          <a:xfrm>
            <a:off x="2438280" y="3886200"/>
            <a:ext cx="38124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Oval 15"/>
          <p:cNvSpPr/>
          <p:nvPr/>
        </p:nvSpPr>
        <p:spPr>
          <a:xfrm>
            <a:off x="1981080" y="3886200"/>
            <a:ext cx="381240" cy="3808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Oval 16"/>
          <p:cNvSpPr/>
          <p:nvPr/>
        </p:nvSpPr>
        <p:spPr>
          <a:xfrm>
            <a:off x="1447920" y="3352680"/>
            <a:ext cx="380880" cy="3812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Text Box 17"/>
          <p:cNvSpPr/>
          <p:nvPr/>
        </p:nvSpPr>
        <p:spPr>
          <a:xfrm>
            <a:off x="3733920" y="3276720"/>
            <a:ext cx="37335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714 = 2CA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1219320" y="5181480"/>
            <a:ext cx="6629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, 1, 2, 3, 4, 5, 6, 7, 8, 9, A, B, C, D, E, 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=10 , B=11 , C=12 , D=13 , E=14 , F=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Mudança da base binária para decimal (10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011001010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                              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6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12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2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9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5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2514600" y="22096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2590920" y="22096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= 0+2+0+8+0+0+64+128+0+512 = 7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>
            <a:off x="2209680" y="25146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2076480" y="2514600"/>
            <a:ext cx="0" cy="76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1905120" y="2514600"/>
            <a:ext cx="0" cy="1219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>
            <a:off x="1771560" y="2514600"/>
            <a:ext cx="0" cy="1600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1600200" y="2514600"/>
            <a:ext cx="0" cy="1981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1467000" y="2514600"/>
            <a:ext cx="0" cy="2362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>
            <a:off x="1314360" y="2514600"/>
            <a:ext cx="0" cy="281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>
            <a:off x="1162080" y="2514600"/>
            <a:ext cx="0" cy="3200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Line 16"/>
          <p:cNvSpPr/>
          <p:nvPr/>
        </p:nvSpPr>
        <p:spPr>
          <a:xfrm>
            <a:off x="1009800" y="2514600"/>
            <a:ext cx="0" cy="3581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857160" y="2514600"/>
            <a:ext cx="0" cy="4038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2209680" y="2819520"/>
            <a:ext cx="228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2057400" y="327672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Line 20"/>
          <p:cNvSpPr/>
          <p:nvPr/>
        </p:nvSpPr>
        <p:spPr>
          <a:xfrm>
            <a:off x="1905120" y="3695760"/>
            <a:ext cx="2590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Line 21"/>
          <p:cNvSpPr/>
          <p:nvPr/>
        </p:nvSpPr>
        <p:spPr>
          <a:xfrm>
            <a:off x="1752480" y="4114800"/>
            <a:ext cx="2743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Line 22"/>
          <p:cNvSpPr/>
          <p:nvPr/>
        </p:nvSpPr>
        <p:spPr>
          <a:xfrm>
            <a:off x="1600200" y="4495680"/>
            <a:ext cx="2895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Line 23"/>
          <p:cNvSpPr/>
          <p:nvPr/>
        </p:nvSpPr>
        <p:spPr>
          <a:xfrm>
            <a:off x="1447920" y="4876920"/>
            <a:ext cx="30477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Line 24"/>
          <p:cNvSpPr/>
          <p:nvPr/>
        </p:nvSpPr>
        <p:spPr>
          <a:xfrm>
            <a:off x="1295280" y="5334120"/>
            <a:ext cx="32004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Line 25"/>
          <p:cNvSpPr/>
          <p:nvPr/>
        </p:nvSpPr>
        <p:spPr>
          <a:xfrm>
            <a:off x="1143000" y="5715000"/>
            <a:ext cx="33526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Line 26"/>
          <p:cNvSpPr/>
          <p:nvPr/>
        </p:nvSpPr>
        <p:spPr>
          <a:xfrm>
            <a:off x="990720" y="6095880"/>
            <a:ext cx="35049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>
            <a:off x="838080" y="6553080"/>
            <a:ext cx="36576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6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00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0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95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Mudança da base octal para decimal (10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31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                              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 x 8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8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 x 8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19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x 8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5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2514600" y="22096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2590920" y="22096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= 2+8+192+512 = 7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3" name="Line 14"/>
          <p:cNvSpPr/>
          <p:nvPr/>
        </p:nvSpPr>
        <p:spPr>
          <a:xfrm>
            <a:off x="2209680" y="27432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4" name="Line 15"/>
          <p:cNvSpPr/>
          <p:nvPr/>
        </p:nvSpPr>
        <p:spPr>
          <a:xfrm>
            <a:off x="2076480" y="2743200"/>
            <a:ext cx="0" cy="76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Line 16"/>
          <p:cNvSpPr/>
          <p:nvPr/>
        </p:nvSpPr>
        <p:spPr>
          <a:xfrm>
            <a:off x="1905120" y="2743200"/>
            <a:ext cx="0" cy="1143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Line 17"/>
          <p:cNvSpPr/>
          <p:nvPr/>
        </p:nvSpPr>
        <p:spPr>
          <a:xfrm>
            <a:off x="1771560" y="2743200"/>
            <a:ext cx="0" cy="1600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Line 26"/>
          <p:cNvSpPr/>
          <p:nvPr/>
        </p:nvSpPr>
        <p:spPr>
          <a:xfrm>
            <a:off x="2057400" y="350532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Line 27"/>
          <p:cNvSpPr/>
          <p:nvPr/>
        </p:nvSpPr>
        <p:spPr>
          <a:xfrm>
            <a:off x="1905120" y="3886200"/>
            <a:ext cx="2590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Line 28"/>
          <p:cNvSpPr/>
          <p:nvPr/>
        </p:nvSpPr>
        <p:spPr>
          <a:xfrm>
            <a:off x="1752480" y="4343400"/>
            <a:ext cx="2743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50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35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0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Mudança da base hexadecimal para decima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CA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                              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A x 16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10 x 16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0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= 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C x 16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12 x 16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1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= 192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 x 16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= 5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2514600" y="220968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2590920" y="22096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= 10+192+512 = 7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Line 8"/>
          <p:cNvSpPr/>
          <p:nvPr/>
        </p:nvSpPr>
        <p:spPr>
          <a:xfrm>
            <a:off x="2133720" y="274320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1981080" y="2743200"/>
            <a:ext cx="0" cy="76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1752480" y="2743200"/>
            <a:ext cx="0" cy="1143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Line 12"/>
          <p:cNvSpPr/>
          <p:nvPr/>
        </p:nvSpPr>
        <p:spPr>
          <a:xfrm>
            <a:off x="2133720" y="3048120"/>
            <a:ext cx="228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Line 13"/>
          <p:cNvSpPr/>
          <p:nvPr/>
        </p:nvSpPr>
        <p:spPr>
          <a:xfrm>
            <a:off x="1981080" y="3505320"/>
            <a:ext cx="2438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Line 14"/>
          <p:cNvSpPr/>
          <p:nvPr/>
        </p:nvSpPr>
        <p:spPr>
          <a:xfrm>
            <a:off x="1752480" y="3886200"/>
            <a:ext cx="2590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5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4000" spc="-1" strike="noStrike">
                <a:solidFill>
                  <a:srgbClr val="ffffff"/>
                </a:solidFill>
                <a:latin typeface="AvantGarde Bk BT"/>
              </a:rPr>
              <a:t>Adição e subtração em binár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vantGarde Bk BT"/>
              </a:rPr>
              <a:t>As operações aritméticas com números binários são feitas de forma análoga aos decim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vantGarde Bk BT"/>
              </a:rPr>
              <a:t>Para a subtração, em especial, é necessário lembrar os “empréstimos” ensinados durante o primár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vantGarde Bk BT"/>
              </a:rPr>
              <a:t>É importante ter em mente qu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+ 1 = 0 e “vai”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+ 0 = 0 + 1 =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+ 0 =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+ 1 + 1 = 1 e “vai”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vantGarde Bk BT"/>
              </a:rPr>
              <a:t>Exemp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Ex1:   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Times New Roman"/>
              </a:rPr>
              <a:t>1  1  1      - vai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0 1 1 – 1a. parce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+  1  1 1 1  - 2a. parce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1 0 1 0 – result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0         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imes New Roman"/>
              </a:rPr>
              <a:t>Ex2: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     0    (</a:t>
            </a:r>
            <a:r>
              <a:rPr b="0" lang="pt-BR" sz="24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)</a:t>
            </a:r>
            <a:r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=2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-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    1    1     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      0    1    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Line 4"/>
          <p:cNvSpPr/>
          <p:nvPr/>
        </p:nvSpPr>
        <p:spPr>
          <a:xfrm>
            <a:off x="826920" y="3645000"/>
            <a:ext cx="1657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Line 6"/>
          <p:cNvSpPr/>
          <p:nvPr/>
        </p:nvSpPr>
        <p:spPr>
          <a:xfrm>
            <a:off x="826920" y="5300640"/>
            <a:ext cx="24498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7" name="Line 7"/>
          <p:cNvSpPr/>
          <p:nvPr/>
        </p:nvSpPr>
        <p:spPr>
          <a:xfrm>
            <a:off x="1835280" y="4365720"/>
            <a:ext cx="21564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Line 8"/>
          <p:cNvSpPr/>
          <p:nvPr/>
        </p:nvSpPr>
        <p:spPr>
          <a:xfrm>
            <a:off x="1258920" y="4365720"/>
            <a:ext cx="28872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EXERCICIOS RESOLVID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 Unicode MS"/>
              </a:rPr>
              <a:t>Exercícios, converter para a base 10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1100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0111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ABCD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A8B2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Bit – menor partícula de informação no computador, pode representar 0 ou 1. Esses dois símbolos são opostos e mutuamente exclusiv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Byte – conjunto de 8 bi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EXERCICIOS RESOLVID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 Unicode MS"/>
              </a:rPr>
              <a:t>Respostas ao exercício anterior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1100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2 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= 12 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0111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2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= 7 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ABCD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6 =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43981 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A8B2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6 = </a:t>
            </a:r>
            <a:r>
              <a:rPr b="0" lang="pt-BR" sz="2800" spc="-1" strike="noStrike">
                <a:solidFill>
                  <a:srgbClr val="eaeaea"/>
                </a:solidFill>
                <a:latin typeface="Arial Unicode MS"/>
              </a:rPr>
              <a:t>43186 </a:t>
            </a:r>
            <a:r>
              <a:rPr b="0" lang="pt-BR" sz="2800" spc="-1" strike="noStrike" baseline="-25000">
                <a:solidFill>
                  <a:srgbClr val="eaeaea"/>
                </a:solidFill>
                <a:latin typeface="Arial Unicode MS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Existiram e existem diversos sistemas de numeraçã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No computador, serve para questões de endereçamento, armazenamento, conteúdo de tabelas e representações gráfic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Bases diferentes usadas nos mais diversos computador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Ba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Binári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,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Oc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, 1, 2, 3, 4, 5, 6, 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ecim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, 1, 2, 3, 4, 5, 6, 7, 8, 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exadecim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0, 1, 2, 3, 4, 5, 6, 7, 8, 9, A, B, C, D, E, 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nas ba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0110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- 101101 na base 2 (binári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75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- 752 na base 8 (octa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651 - 651 na base 10 (decima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Quando não é indicada a base, a base é decimal. Mas poderia ser representado assim: 651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423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- 423 na base 16 (hexadecima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nas bases – Base decim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748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7484 = 7 x 1000 + 4 x 100 + 8 x 10 + 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7484 = 7 X 10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4 X 10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2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+ 8 X 10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4 X 10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em polinômio genéric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úmero = d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d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... d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d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de binário na base 1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10100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10100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1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1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5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+ 0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1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0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0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1 x 2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10100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64 + 32 + 0 + 8 + 0 + 0 +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10100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105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 em polinômio genéric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úmero = b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b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... b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b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de octal na base 1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5462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5462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5 x 8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4 x 8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3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+ 6 x 8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2 x 8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 x 8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5462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20480 + 2048 + 384 + 16 +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5462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22929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 em polinômio genéric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úmero = o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o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... o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o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47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Sistemas de Num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de hexadecimal na base 1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3974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3974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3 x 16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9 x 16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3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+ 7 x 16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4 x 16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 x 16</a:t>
            </a:r>
            <a:r>
              <a:rPr b="0" lang="pt-BR" sz="20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3974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196608 + 36864 + 1792 + 64 +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39741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= 235329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Representação  em polinômio genéric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úmero = h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h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... h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 + h</a:t>
            </a:r>
            <a:r>
              <a:rPr b="0" lang="pt-BR" sz="22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pt-BR" sz="2200" spc="-1" strike="noStrike" baseline="30000">
                <a:solidFill>
                  <a:srgbClr val="eaeaea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5:51:42Z</dcterms:created>
  <dc:creator>Superintendencia Informatica</dc:creator>
  <dc:description/>
  <dc:language>en-US</dc:language>
  <cp:lastModifiedBy>Lelo</cp:lastModifiedBy>
  <cp:lastPrinted>2001-08-15T18:56:47Z</cp:lastPrinted>
  <dcterms:modified xsi:type="dcterms:W3CDTF">2011-08-23T14:44:11Z</dcterms:modified>
  <cp:revision>36</cp:revision>
  <dc:subject/>
  <dc:title>A Área de Informática</dc:title>
</cp:coreProperties>
</file>